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32D7-4C66-4381-97BB-1101840B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3E5B-32BB-4B68-A460-D662BCB1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3F112-9A44-4D49-B713-0C89ADB9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083BF-05DB-43FA-B188-313B77C2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8F90D-2F7E-4454-AF38-4872F4D1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1CE5A-83A2-4ED0-8A32-95EF6D37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2D7D9-E04F-41D4-9EBC-BA6343B9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6B712-906D-4BE7-B08D-3065E759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333F1-D089-45F6-8155-36B72BBE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93753-0CCA-4C0E-8E77-48292D8B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8E67D-485A-4908-88E1-0427D764F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EBB24-404C-44C5-B9AF-ABF2FEC30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20EE-B4CD-438E-944D-90DF4AD06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7F8B4-5757-409D-AF68-CF80A5A6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478C1-E278-409C-9F38-C10725CB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7AD1B-83CC-4A26-98F1-68A096AC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15851D-254B-4745-970F-B5FAABAC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AE2435-C630-4276-B5B9-B96E0B9E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F6CB8-4E09-44D2-809A-8FE82E39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C8EBD-271E-49AE-944E-1E40B2CF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83EE66-4702-4B80-83E3-9760942D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A0164-AE3D-41F1-BCAA-87361C67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23B8B-5F22-4C79-AFAC-AE881193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FF36-A499-43F0-892D-7DA9EDF7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353951-57B5-4D98-8C01-9A1B1D607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680A6-378C-4D6E-9DF9-88CFFA338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8E0D0-F135-457A-8580-F9AF9231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EF457-45E2-47B1-9D46-B53F4C60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249ED-EA5F-4C2F-8B42-34D73052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FBC17-8064-4274-913A-8C885E5E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3923D-BAB6-4712-8FCF-6DECF5E3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25B0A-10C8-4ADD-AE4B-8D9DC5E7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EA6A1-3F33-4D9C-A08E-A838955D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F0311-F4A0-49A5-A553-5F804A1F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E060-5051-42CC-952E-9FAC29FC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43D92-47AB-4403-917C-AA0DC45B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2D6CE-3EB8-469F-ACF2-BD3CACFCD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D13EB-5AF8-4AD9-A08B-49421E38F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03195E-FC7C-4D00-926B-210F3580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8F2A0-315C-4A36-B7CA-14688A32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5D61E-AFC7-420D-A71A-12825638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914284-5F1E-4241-B09E-3D7D2C32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ED30D-C4B8-49D3-806D-26EDBB63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823E4-A561-4AEC-8845-4FA5CE3E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C1A987-CF3D-4F1F-B4DF-0C8FB27D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6E30-B56B-415E-90C5-332D5A32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863654-83EC-4FC7-8EC8-FD612964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57E70C-EAC2-4BBF-9DF8-B14F9FCD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608B9-2CF2-42D0-8B95-928B3EF6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D1F56B-B15E-4B84-AD6C-8277306D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9E30A-CF70-4070-86C1-69AD9D8D1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1E24E6-83FB-446C-8DAA-1AB31311A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976C76-3298-4AAB-B48B-255D0DE8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0A8E94-363E-47AF-8528-3F3BE609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ECF037-1DF7-4E55-AB4A-0338A5DF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C15CE1-488B-410E-ACD5-AD7A49FA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8BEF-982F-4565-9562-6FD37334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E7AF24-9BE9-4145-84C7-5239CC7D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A995AD-193A-4EAC-814D-9C0A0467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DE9296-9B07-43E2-BEC3-55C86181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100687-106A-4570-BF7A-B35144EC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72C444-4032-4CC7-B98B-F68778B3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401A57-FA55-406F-82E1-680BA140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2711F8-619B-49D0-8CD5-25238677D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AB0257-0028-4EAC-804A-F1969003A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AB0E94-81D6-45BF-AB31-A3FD9414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C9543E-C547-41EF-8F0A-7110EAD7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3AB8-1FD3-49C3-99FD-2CF89D0A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9C59CF-C621-4AD0-87DB-432D9831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F0CC65-3385-4118-91EC-41ABA89B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53B6C4-F37D-4690-865D-6415D5B5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E485F1-657D-4E1E-869B-C56A8AD5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797B50-B7ED-423B-BEF9-673BA27F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83C087-FAF5-410D-8D85-31CA885F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4AF165-55E7-443B-9FF2-F5A12B31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9A6DAD-4B1A-46BB-B41A-771E7278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C35A72-0AF8-4396-9698-3034A5502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065F0E-B312-4FF2-9225-C38AF001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5552-E860-4D6A-BE7A-B67A771E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9CC215-9926-4E0B-BB2A-B47792A0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BA0F53-52E7-4A75-BCC7-F33B3316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AAFFA6-CB43-4758-91FC-7349CDB6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31196C-04DD-4880-9F69-6050AB15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389CD9-5004-4643-9B6F-E5FF1EAD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2C585A-D515-445D-AD2D-747BEFBF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ED32BF-213B-4FAE-B5B9-36602A86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2E8827-DE6B-4F2A-908E-09A83BCC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EE7ABA-E5EE-49CD-ACDF-A7005E2C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09546C-DFC5-40CA-98C2-FF6DBB3E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0112-3FFE-4A88-BA25-0C60BC61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ECDBF9-13AA-44CD-9AE0-0086B840E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469FAB-0E8E-4860-A9E4-84787CCC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831089-4CD6-48D2-BFE8-F7988087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224A98-7949-43CD-B8F5-563E7FF7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C24D4E-6414-464F-A614-09B43AF8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C426DE-7A53-4B1F-B63A-76135391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B89502-E793-40A3-9B77-7DD90294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D90F43-AF40-4301-95F8-DB42B4D3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9278FF-1CA8-4A82-B6D2-502EE91C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44AF24-906A-46DA-892C-6000388F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C3C2-3A48-4B62-9B82-A2BCE77C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188BB4-F19B-4F85-B4D9-CC766758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784858-54F8-46C2-8D96-F61E03AC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AD5B5E-DBC6-4950-8A1D-36B32A70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08868F-DD69-45FB-854B-B04D19AC0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CE8B53-CACE-4451-B1FB-BC04DD4D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722925-0E1D-4EFF-8CAE-2DBB247E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28D6F2-6365-4903-B0C6-DF77F52D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9E6802-7B78-4DDF-88B7-FF1DE833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47FF60-B9A8-48D3-B12C-A0F8BD51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E17983-4C75-421B-8A85-06FF8981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A23A-9DB7-40B5-80AB-EF14DEFF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A199-607E-4019-B8DC-F8B8E06A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0CBE6D-C912-4286-AA16-0BB7927A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432BAE-9E46-4123-9C0B-EDF9E870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B21EE3-F51E-48FD-AC89-7CEB265B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698FE2-E64C-40D3-9AA1-55A9AF629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7BD140-2AB1-4F68-AA94-3A6A68535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295146-EACB-470C-BC2D-22F9D92CE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BD1A6D-CA23-497A-A2C5-01B7D80D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87CF4C-D418-4942-9597-115A7578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8504F0-40B4-440B-9625-E69C11CC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EA43D0-1CDE-4EDA-A9DF-8C4A836D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9E00-5917-430A-8394-D19F6FC8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3AD676-3469-4278-B523-4EEE474A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F1CC95-BB39-49C7-AA97-040D933E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537681-DEAE-4BDF-91E9-057CC378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7C2CB4-8C50-4B61-AC0E-10F73133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93E30E-6979-4A63-9A16-C6B70A27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040AB3-4786-4C0D-86EB-21822675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43D6EC-BF26-43B0-AA5B-62760C0A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CA690D-DCA2-488C-A290-8F67586F5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A574FB-9FD5-4400-9067-7CBF223F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7A2114-D29B-4414-815F-7DE81C39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504B-8B61-4E5F-972F-04788DEE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5220D2-24F3-4B97-879F-A3C4C4BF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BA8981-A5F2-4C1D-9CF6-444CAC9D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FE6171-35CD-4369-93FB-3DA2E465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24E3DB-7B33-45A2-8DD4-7029E432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084B44-E884-45C4-8E38-C1CAE6A0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EF809B-BE49-404F-98DC-2D61DE81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10FC87-DCF2-4805-BCD2-72CED8D1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E16DB9-1238-4A0B-AC16-E576A785A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E0E24D-5F0D-4055-B0AB-9BBC59216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EADA85-06E7-43CB-BE70-8A85BAED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5BB2-5959-4698-8A73-2BCA45DA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C5A856-D7CA-4AB3-B967-C89DB743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6C6A76-A6A6-4CE5-A097-AEB455BC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250D33-C203-4A54-8D63-8A378309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E64EB8-C0B9-4AC5-9E57-084451B6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13A2E5-0BB3-49C6-ABD4-2FC6068F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ED00EA-432A-42DB-8957-0EAFD25A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50CDCD-73D0-472F-AF21-6F3E81AC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3B28DF-3BE7-4D1B-87AA-A62AA54D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F2FCF3-B5D1-4C4A-A57F-EA40F152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E86130-F567-4A18-BA8C-721DE1ED5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CEB3-BE35-49B3-8E5F-2758E171C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D39834-7CC8-483E-98EA-6352BEB8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956A6B-878A-4A0D-A7CA-D909E730C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30179E-3940-48BC-BD79-645E114D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02E104-633C-4BB0-B5DB-866C519A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9FA69D-C349-4EBE-AA85-978307EA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97F319-DFF3-4C5B-A8BB-D2439BEF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402B86-FD3E-4842-870E-F629548F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9F170E-F209-4D08-9635-7AF89192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86EDAD-7F48-45AA-8E7F-A9BF37FE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E789EA-83BC-474A-BFC0-0C819124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052D3-8977-4415-ACC4-D9E71617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F1CBDD-5C54-4C26-93E6-88A6A214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95B88B-7052-45D6-B2FA-27D767D3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95066C-A685-48EB-A517-83309132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8E858-3B9D-45FA-BA2E-11D2E3BC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CA736-BE35-46FC-9698-6D0D82F0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17EB3-D2E1-4152-94D5-4E86AEBB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BA327-0F84-4EB8-82E6-A5C2FB7A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94EC-DCD6-4BC2-B565-586BF3CD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CBE15-B409-47F5-A7A0-08F3EA17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1DF49-E20E-40BF-A035-5EA623F0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F0CDA-9189-471B-BA12-951C7A11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3FF6B-427F-49B6-BEAB-C7F54685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D4979-74E0-4F8F-93BC-050E0303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499DA-AB4F-4065-ACFE-2A67603D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16D1F-5F0A-4DB3-AA45-9410DFFDC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20296-57C8-4773-8EE8-7176C83F4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53D2C-C95B-4AE0-842E-7C159779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5449C-EBA4-41AF-AF77-6A659F49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24B8-7CD1-4312-A735-70E786AB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D53A4-77DF-4A88-943C-5A6BF780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B1E29-7F0E-4CB5-ADA0-470C15AE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C7D1F-FB60-49F0-8496-D11C15A0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5CD22-1C24-4098-8DF5-44A1337F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D4518-96F8-4962-B3CD-526FA155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6CB75-72B9-4B96-8BD7-6A427BEE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71FD7-3450-4257-83D5-C56DE221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D1F16-9000-4566-BC45-A7933CB2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93433-FF28-4522-8165-C4D8B4CFF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BF50A-2BC2-4B81-8C43-31BB6367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C7FA-D994-4BA6-9F36-3DEB1C66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F6321-1517-43ED-A1EC-5D0047AD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E69AE-00CA-4E25-A111-B25B5405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10423-9873-4554-B1A3-4D60F658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87310-7D6B-45C1-B399-D89FAE5E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04813-D59A-44CC-9250-4FB77E06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EDCC6-F295-4F14-BE98-FBBBDF20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CFCEF-CDEA-4C1C-8F03-1D4F9AEA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39E5F-5399-4D24-BC56-77FF3007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58C78-3719-4974-B2A9-E57794DE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D7C57-233E-41AF-9999-9325B4EC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6796-BDCE-4560-96D0-C53805AF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98B90-C489-4888-A5BC-F97380F09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31781-E2B7-40CA-A25E-AE737D996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B20BF-19A7-4A10-AAEB-4282F08E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7BB7F-0610-406C-BC49-4F8C2C76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5533D-4882-49BC-A0D8-68CE06E2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5E43A-F934-4DD3-A54F-001F89B2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92A2E-7D91-451E-9392-2F48573F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C1E3F-9D62-4314-BB18-003478DD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2D55A-F0A2-42BB-A521-9010015B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7B656-26AA-4BD7-ADFA-B972E3BA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5D2A-D494-4242-8D6E-97DFCE2C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EA111-024D-44AA-86FA-B764A130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ED349-1BBF-41E0-95CC-6608C956A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7C620-7D78-460C-B267-BC726B2B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A60EC-CE70-453F-9F0D-431075EE6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D4259-2596-4960-BA02-34736C8E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E8DAC-FA11-4D10-8DAE-D83A66F4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52A54-BE10-4E83-8AB5-1F4500CD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7FA41-C02B-45D8-B8B4-A15C0CC3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E0B1C-1D83-4C17-9770-88CCC928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F3C85-6C30-463D-BBB2-A1BBAD34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0D54-D9ED-4DD6-B49B-2AAB7092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F3389-46F5-4173-BCDA-39BFA348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75FCB-3FB6-40BD-B280-CC71595C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3CF78-62F4-441E-9BEC-71FB6B0C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58749-3908-4728-AC88-7A30AB05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E4C8D-F1C2-4BF9-8CF4-41FAC399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37B47-4303-46D1-A521-83A0CA19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B0D27-EB06-4778-9AA7-0B8BD091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4803A-9F3C-4339-AEE7-77466AF9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6125D-E73E-44D8-94E9-0F46B8E2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7FC51-AD54-41C5-802B-2B241AFD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853D-8D7A-4465-A442-061449A9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4C3DF-5101-461C-86DC-153A0A52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AE249-F126-4370-9F4F-74ABD8B8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D47F9-136B-4416-BFA6-1EC535B5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F739D-EEF4-4F95-8316-F9135264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9800E-D9BF-4CAD-A7AA-4912B72E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79388-8940-431A-B9AC-509385F1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32CF7-FDF2-489F-9230-02EC473E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2DC79-BCA1-4544-B5EC-59E4672D9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A2F76-D168-4F25-AAED-AE928085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3E9E4-F3C7-4F21-839C-876137EB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0C3A-B92D-452C-B545-90940F80B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B706-CE44-45C3-B160-EF5EB2709C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5C3F-6F40-4323-9FD5-5CF6BDE40A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41D0-CC89-4454-BC65-E35971B158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21A7-1EDD-4367-9CC3-4BAB5B1751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5192-4389-445D-9611-9EE692029E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CB09-A9C7-4F10-AE6C-AC43236364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2910-31FB-44CA-AA46-1215C0B08F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414E-B301-4864-A4C6-D12DAE3218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B168-EF63-4A6A-85F8-B1134F0919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1467-DB94-41FD-8E21-E9F5E3F4AB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67FC-9E55-43BD-A48F-544524D5D8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0B1C-9D24-4434-84AA-EAF69C6ED7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66D4-3452-4C1F-9756-BFB1FAC206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03E5-DAB8-42B9-90A6-4914D6A0AF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1BF1-BBB9-4ED5-89CF-742811DDAC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61C9-E437-4FA8-A50E-3796AAC12C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C074-6AC7-4D34-91D7-3F3D12241C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A755-28D8-4354-9715-EEF732DB59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80A6-3449-47DF-A0AA-BE214D9223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4C7D-452D-4DCB-8D54-ED99CC2963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FED3-4393-464B-9C59-BCC072EF8E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A074-24E4-4636-B39B-37BCFC2AC6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123B-5EDD-4E8D-ACB7-54C4B62FD6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8351-A9A1-4621-9BFA-56D1F9B7AA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FA31-4C5D-4636-B890-F06214F6F7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DB50-CE38-4861-8695-C824724956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0AB6-18F3-48D8-9185-E50B0F96B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DC93-160C-4FD9-BFAF-F7D16EFC11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031D-41E0-4C08-86A0-4ACB764863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FC0A-3DA0-4E5E-87D8-8906401910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BEE8-294A-4216-902E-39EB645FD5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A841-FDD3-4E51-9560-A206E14DAF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9F44-936E-4A91-9F2D-E2D384D7EE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CC87-B331-4F8E-8829-AA503BC1DD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733D-467A-437F-8A10-BB6F015130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A38C-C9A5-4F9D-87D7-F50F57E82E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156D-8BEF-4DBD-B9CB-15ECFAF146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3BF5-1C66-4B60-ADFA-6924681397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93B8-2B1E-4D48-8DFD-7CC4A0AA1F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533680" y="2155680"/>
            <a:ext cx="4076640" cy="63828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2228760" y="3322800"/>
            <a:ext cx="4686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5124" descr=""/>
          <p:cNvPicPr/>
          <p:nvPr/>
        </p:nvPicPr>
        <p:blipFill>
          <a:blip r:embed="rId2"/>
          <a:stretch/>
        </p:blipFill>
        <p:spPr>
          <a:xfrm>
            <a:off x="195120" y="1467000"/>
            <a:ext cx="8753760" cy="3924000"/>
          </a:xfrm>
          <a:prstGeom prst="rect">
            <a:avLst/>
          </a:prstGeom>
          <a:ln w="0">
            <a:noFill/>
          </a:ln>
        </p:spPr>
      </p:pic>
      <p:sp>
        <p:nvSpPr>
          <p:cNvPr id="1030" name="直接连接符 5125"/>
          <p:cNvSpPr/>
          <p:nvPr/>
        </p:nvSpPr>
        <p:spPr>
          <a:xfrm>
            <a:off x="2556000" y="2421000"/>
            <a:ext cx="1368360" cy="5032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直接连接符 5126"/>
          <p:cNvSpPr/>
          <p:nvPr/>
        </p:nvSpPr>
        <p:spPr>
          <a:xfrm>
            <a:off x="2527200" y="3573360"/>
            <a:ext cx="1397160" cy="136836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直接连接符 5127"/>
          <p:cNvSpPr/>
          <p:nvPr/>
        </p:nvSpPr>
        <p:spPr>
          <a:xfrm flipV="1">
            <a:off x="2498760" y="3499920"/>
            <a:ext cx="1425600" cy="12970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直接连接符 5128"/>
          <p:cNvSpPr/>
          <p:nvPr/>
        </p:nvSpPr>
        <p:spPr>
          <a:xfrm flipV="1">
            <a:off x="5003640" y="2563560"/>
            <a:ext cx="2665440" cy="18730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直接连接符 5129"/>
          <p:cNvSpPr/>
          <p:nvPr/>
        </p:nvSpPr>
        <p:spPr>
          <a:xfrm flipV="1">
            <a:off x="5075280" y="3715920"/>
            <a:ext cx="2592360" cy="17316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直接连接符 5130"/>
          <p:cNvSpPr/>
          <p:nvPr/>
        </p:nvSpPr>
        <p:spPr>
          <a:xfrm>
            <a:off x="6227640" y="2492280"/>
            <a:ext cx="1024200" cy="198756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447840" y="1890720"/>
            <a:ext cx="8248320" cy="30765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1403280" y="23637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1403280" y="2924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4"/>
          <a:stretch/>
        </p:blipFill>
        <p:spPr>
          <a:xfrm>
            <a:off x="1403280" y="3429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5"/>
          <a:stretch/>
        </p:blipFill>
        <p:spPr>
          <a:xfrm>
            <a:off x="1403280" y="3933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6"/>
          <a:stretch/>
        </p:blipFill>
        <p:spPr>
          <a:xfrm>
            <a:off x="1403280" y="443700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图片 1" descr=""/>
          <p:cNvPicPr/>
          <p:nvPr/>
        </p:nvPicPr>
        <p:blipFill>
          <a:blip r:embed="rId1"/>
          <a:stretch/>
        </p:blipFill>
        <p:spPr>
          <a:xfrm>
            <a:off x="104760" y="1442880"/>
            <a:ext cx="8934480" cy="39722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2"/>
          <a:stretch/>
        </p:blipFill>
        <p:spPr>
          <a:xfrm>
            <a:off x="1042920" y="19303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3"/>
          <a:stretch/>
        </p:blipFill>
        <p:spPr>
          <a:xfrm>
            <a:off x="1042920" y="393372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1" name="图片 1" descr=""/>
          <p:cNvPicPr/>
          <p:nvPr/>
        </p:nvPicPr>
        <p:blipFill>
          <a:blip r:embed="rId1"/>
          <a:stretch/>
        </p:blipFill>
        <p:spPr>
          <a:xfrm>
            <a:off x="190440" y="574560"/>
            <a:ext cx="8763120" cy="62391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1692360" y="43797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4427640" y="4365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4"/>
          <a:stretch/>
        </p:blipFill>
        <p:spPr>
          <a:xfrm>
            <a:off x="7164360" y="44226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5"/>
          <a:stretch/>
        </p:blipFill>
        <p:spPr>
          <a:xfrm>
            <a:off x="1692360" y="6165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6"/>
          <a:stretch/>
        </p:blipFill>
        <p:spPr>
          <a:xfrm>
            <a:off x="4427640" y="618012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3:48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